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36880" y="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73280"/>
            <a:ext cx="494028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9870-B560-47BB-951A-6AAF818AFDC9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EA3A-2C85-4A3B-90A8-4FEC8AC9455E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A68-85EE-4A81-B21D-4B9C3342250B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35F6-B28F-4251-9CE6-9F312C8D2686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9F08-AA64-41BE-9783-10F13052018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1E3-DBFE-437F-AA1F-8A4E9F0521F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7328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6584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36880" y="9418680"/>
            <a:ext cx="2935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154-F3B6-403F-A42F-EE3E6AFD509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CF9-C2FB-4DF8-9CFF-FC6C574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50C-7B71-4D49-A145-84FB48E5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FE2-AD3F-4D3D-A326-23B0F664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427-EBD0-4962-8DAE-4EF85F08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C3EA-B205-434B-861C-9C39BE6B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E486-A6B9-4EB0-B299-5E9BC02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05AB-39CB-40BF-A11A-48417CE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1B2B-6B1F-4031-A24C-C661D07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7D7D-C80F-463D-9EEF-8292D671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480E-9F09-4404-95A1-A391940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CF7-A580-46B1-8AE6-3C169F5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D93-86FD-4A01-9EF3-09AAAEC7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5EC-5D83-4D80-A6DF-E9A3D093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6BA4-FFDE-4B88-9958-F1501CF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DA3A-8A1C-4B97-ACF6-3890CA1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BEBE-18AD-43B6-AE63-44417213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2927-ED0B-42A0-B3F9-833132B8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6C08-2CC8-4643-AD74-153A6661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D2D7-DDCF-4E50-9FE1-45A6347C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4817-A9FE-4548-948C-241EF86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B757-9045-44B5-A31D-5E929EA6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1EFE-458E-4328-9AC0-5A3276E8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FF4-431C-43DE-A3EA-42B2B0A6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03E8-5DF5-4816-B671-CBE8AF5B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408E-FDA8-4A0A-93D5-366B3DE4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AF24-C2AF-4E85-B014-E4E6F02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7791-1AC4-4AD4-9A2D-EBF8893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D3EA-E75C-4AE6-B24C-2C5F150C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256F-CC40-42B2-AE24-13C92D47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B073F-AEFF-4664-9D2C-289D22AE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9F4-4B6C-447D-8FCE-4662826D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B33-442C-4F91-882E-1AF7FB4A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7B3-6DA4-47B9-94D7-8ECF10E3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6ED-88AB-4B49-A839-9A6CE71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F42-84FC-4177-BD54-8BD98B58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C13-612B-4393-9251-2336318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3D9C-FFC8-4032-83DA-F88DAF9ABB3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A172-D7C1-417B-A7DC-2DC3102A820E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576360"/>
            <a:ext cx="623592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1930320" y="1523880"/>
            <a:ext cx="6540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874-EDEB-4B86-B342-AB272FD2973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301F-561E-4058-959A-A8E4B90FCCE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ZoneTexte 6"/>
          <p:cNvSpPr/>
          <p:nvPr/>
        </p:nvSpPr>
        <p:spPr>
          <a:xfrm>
            <a:off x="647640" y="20574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napshot of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od Security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In Cambodi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848040" y="5257800"/>
            <a:ext cx="4711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U Delegation to the Kingdom of Cambodi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5640" y="1603440"/>
            <a:ext cx="6811920" cy="47941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968480" y="5664240"/>
            <a:ext cx="642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ding Support under Food Facility: € 17.9 M, 5 projec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ding Support under Food Security: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€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.1 M, 18 project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pcoming funding under FS in urban areas: € 2 M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3. Respons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241200" y="2451240"/>
            <a:ext cx="6642360" cy="4254480"/>
          </a:xfrm>
          <a:prstGeom prst="wedgeRectCallout">
            <a:avLst>
              <a:gd name="adj1" fmla="val 1458"/>
              <a:gd name="adj2" fmla="val -56902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bf8fd"/>
                </a:solidFill>
                <a:latin typeface="Arial"/>
              </a:rPr>
              <a:t>To Donors: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ebf8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Don’t cut aid, but continue and with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tter target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ebf8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Don’t just focus on emergency funding (e.g. food aid)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ut also on agricultural sector, micro-credit schemes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, health, et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 a greater proportion of aid on core needs:</a:t>
            </a:r>
            <a:r>
              <a:rPr b="0" lang="en-US" sz="18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cial safety n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gage with government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at the funding from donors is used efficiently to directly meet the needs of the poor and encourage them to engage with civil society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88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ork with civil society</a:t>
            </a:r>
            <a:r>
              <a:rPr b="0" lang="en-US" sz="1800" spc="-1" strike="noStrike">
                <a:solidFill>
                  <a:srgbClr val="ebf8fd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 the necessary responses, government may lack the capacity to reach the poorest of the poo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934320" y="1549440"/>
            <a:ext cx="1962000" cy="130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6934320" y="281628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3"/>
          <a:stretch/>
        </p:blipFill>
        <p:spPr>
          <a:xfrm>
            <a:off x="6934320" y="4111560"/>
            <a:ext cx="1962000" cy="131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4"/>
          <a:stretch/>
        </p:blipFill>
        <p:spPr>
          <a:xfrm>
            <a:off x="6934320" y="5407200"/>
            <a:ext cx="1981080" cy="1323720"/>
          </a:xfrm>
          <a:prstGeom prst="rect">
            <a:avLst/>
          </a:prstGeom>
          <a:ln w="0">
            <a:noFill/>
          </a:ln>
        </p:spPr>
      </p:pic>
      <p:sp>
        <p:nvSpPr>
          <p:cNvPr id="201" name="Oval 12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41200" y="2413080"/>
            <a:ext cx="8293320" cy="4292640"/>
          </a:xfrm>
          <a:prstGeom prst="wedgeRectCallout">
            <a:avLst>
              <a:gd name="adj1" fmla="val -8787"/>
              <a:gd name="adj2" fmla="val -55953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ebf8fd"/>
                </a:solidFill>
                <a:latin typeface="Arial"/>
              </a:rPr>
              <a:t>To the government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timely and rightl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o crisis;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engage civil societ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 discussing government responses 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cus on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stimulus packages that take account of the poor as the starting point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seed banks, direct cash transfers, rural small scale economic development activities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event children from dropping out of schools (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don’t mortgage the futur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crease agricultural production and productivity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Land reform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Land title and property rights, Better land management and Redistribution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Infra-structure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Irrigation, water management, Rural roads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Facilitate loans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r agricultural development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5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Improvement of production technology</a:t>
            </a:r>
            <a:r>
              <a:rPr b="0" lang="en-US" sz="17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(high purified and quality seeds; better fertilizer use – timing and amount; with the mobilizations of natural composting)</a:t>
            </a:r>
            <a:endParaRPr b="0" lang="en-US" sz="17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241200" y="2311560"/>
            <a:ext cx="8242560" cy="2806560"/>
          </a:xfrm>
          <a:prstGeom prst="wedgeRectCallout">
            <a:avLst>
              <a:gd name="adj1" fmla="val -8532"/>
              <a:gd name="adj2" fmla="val -55486"/>
            </a:avLst>
          </a:prstGeom>
          <a:solidFill>
            <a:srgbClr val="5ca47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Civil Societ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e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ell aware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the crisis and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rease the awarenes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lowest local planner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 capacity fo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esources mobiliz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thei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ffective us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volve local partners and institutions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en defining and implementing response. Account for all groups affected by the crises, with special attention to women, children and minority group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crease beneficiaries particip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all project development cycle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ork closely with the local authorit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other stakeholders to increase efficienc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owering and establishing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ocal development structur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lear exit strateg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77840" y="1576440"/>
            <a:ext cx="6648480" cy="520200"/>
          </a:xfrm>
          <a:prstGeom prst="ellipse">
            <a:avLst/>
          </a:prstGeom>
          <a:solidFill>
            <a:srgbClr val="5ca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f8fd"/>
                </a:solidFill>
                <a:latin typeface="Arial"/>
              </a:rPr>
              <a:t>4. Messages from the fiel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609480" y="5181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5943600" y="51814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D11-3AE2-40B9-A2C5-52BDD71D559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ZoneTexte 2"/>
          <p:cNvSpPr/>
          <p:nvPr/>
        </p:nvSpPr>
        <p:spPr>
          <a:xfrm>
            <a:off x="863640" y="1981080"/>
            <a:ext cx="7556400" cy="35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ambodia Contex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C Response :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2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d Security &amp; Food Facility projects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225"/>
              </a:spcBef>
              <a:buClr>
                <a:srgbClr val="3333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: Messages from the Field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pulation :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14 million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80 % lives in rural areas and 71 % depend primarily on agricultu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largely rice) and livestock for their livelihoo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32 % of popul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below the poverty line and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90 % of the poor reside in rural areas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verty in Cambodia is overwhelmingly rural, ranging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from 40-45 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e rural areas,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aching 70-80 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some areas around the Tonle Basi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ral poverty and food insecurity are strongly interlinked : 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71 % of households expenditur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spent on food (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in the lowest income, more than 80%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st people depend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on their own capacity to produce food to meet their nee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hey grow crops including their staple food (rice) annual and perennial crops, raise livestock, and harvest wild foods from fisheries and forests for food and incom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orest are particularly dependent on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ccess to common property re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ex. eating and selling fish, eating mushrooms, firewood…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30120" y="1574280"/>
            <a:ext cx="8445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volatile food prices have negatively affected the poor households, as they can not easily shift non-food parts of their expenditures to food, </a:t>
            </a:r>
            <a:r>
              <a:rPr b="1" lang="en-GB" sz="1600" spc="-1" strike="noStrike" u="sng">
                <a:solidFill>
                  <a:srgbClr val="0000ff"/>
                </a:solidFill>
                <a:uFillTx/>
                <a:latin typeface="Arial"/>
              </a:rPr>
              <a:t>coping strateg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re :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duce the quality of food : lower value, less nutritiou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creased consumption of nutrient-dense foods: animal source foods (meat, poultry, eggs, fish, milk), fruits and vegetable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Reduce the quantity of food : reduction of food intake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duced expenditure on basic foods : sugar, oil, salt and staples such as wheat flour products, rice and tuber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00"/>
              </a:lnSpc>
              <a:spcBef>
                <a:spcPts val="1100"/>
              </a:spcBef>
              <a:buClr>
                <a:srgbClr val="0000ff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Apply other negative coping strateg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creased use of foods grown or collected (eg increasing pressure on fish stock)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ing fewer agricultural inputs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ing loans and face further indebtedness, 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tress sale of productive assets, 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ing children out of school (usually girls first) leading to increase of child labour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duced spending on health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2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ying to increase incomes – risks of unsafe behaviours (migration, sex industry …)</a:t>
            </a:r>
            <a:endParaRPr b="0" lang="en-US" sz="15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228600" y="3098880"/>
            <a:ext cx="6094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990720" y="2362320"/>
            <a:ext cx="0" cy="1600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DSC06911"/>
          <p:cNvPicPr/>
          <p:nvPr/>
        </p:nvPicPr>
        <p:blipFill>
          <a:blip r:embed="rId1"/>
          <a:stretch/>
        </p:blipFill>
        <p:spPr>
          <a:xfrm>
            <a:off x="6032520" y="3240000"/>
            <a:ext cx="2705040" cy="361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44600" y="2031840"/>
            <a:ext cx="55497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rition Status in Cambodia has deteriorat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Anthropometric Survey - Nov 2008 )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ute malnutrition (wasting) of children under five :  rate of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8.9% in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ed to 8.4% in 2005.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trend is even stronger for poor urban children &lt; 5 with a wasting rate of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15.9%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mpared to 9.6% in 2005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625400"/>
            <a:ext cx="80010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299"/>
              </a:lnSpc>
              <a:spcBef>
                <a:spcPts val="312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The consequences of reducing dietary qualit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(micronutrient deficiencies) and quantity (reducing dietary energy) in terms of nutrition &amp; health …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are jeopardising the future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ften already prevalent in poor populations, especially stunting, and so increase of severity can happen very rapidly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reatest negative impact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on growing infants and children and pregnant and lactating mother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which leads to irreparable damages and life time productivity losses, and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will further affect maternal death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(for which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progress has been made since 2000)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lowed cognitive development and growth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thinness among adolescents and adults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incidence and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severity of infectious disease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, and especially diarrhoea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299"/>
              </a:lnSpc>
              <a:spcBef>
                <a:spcPts val="312"/>
              </a:spcBef>
              <a:buClr>
                <a:srgbClr val="000000"/>
              </a:buClr>
              <a:buSzPct val="6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creased stunting has long-term </a:t>
            </a:r>
            <a:r>
              <a:rPr b="0" lang="en-GB" sz="1700" spc="-1" strike="noStrike">
                <a:solidFill>
                  <a:srgbClr val="0000ff"/>
                </a:solidFill>
                <a:latin typeface="Arial"/>
              </a:rPr>
              <a:t>impacts of impaired school performance, work productivity and future earning potential</a:t>
            </a:r>
            <a:endParaRPr b="0" lang="en-US" sz="17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8088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lnSpc>
                <a:spcPct val="80000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1. Contex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03040" y="1587600"/>
            <a:ext cx="86997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97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Agricultural growth is currently constrained b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water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: lack of irrigation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land, forests and fisher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: 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20% landless, 25% &lt; 0,5 ha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technolog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in production, transport, post-harvest storage, processing/small scale transformation, and marketing/sales of products 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(deficient distribution and infrastructure : roads, market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2" marL="13953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i="1" lang="en-US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103c72"/>
                </a:solidFill>
                <a:latin typeface="Arial"/>
              </a:rPr>
              <a:t>which also affects competitiveness in regards to neighbouring countries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capital for investmen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loans and micro-credit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diversified income-generation activiti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, and limited long-term agribusiness investment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ufficient Access to market information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(productivity and products price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pacity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of farmer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-497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akness of public services</a:t>
            </a:r>
            <a:r>
              <a:rPr b="0" lang="en-US" sz="1600" spc="-1" strike="noStrike">
                <a:solidFill>
                  <a:srgbClr val="103c72"/>
                </a:solidFill>
                <a:latin typeface="Arial"/>
              </a:rPr>
              <a:t> (on agriculture research, extension, market information and phytosanitary services)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45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3c72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Furthermore, Cambodia faces immediate threats to its agricultural production and food security from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climate changes</a:t>
            </a:r>
            <a:r>
              <a:rPr b="0" lang="en-GB" sz="1600" spc="-1" strike="noStrike">
                <a:solidFill>
                  <a:srgbClr val="103c72"/>
                </a:solidFill>
                <a:latin typeface="Arial"/>
              </a:rPr>
              <a:t> in rainfall, temperatures and availability of water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2. Challe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rcRect l="14654" t="13786" r="16635" b="22353"/>
          <a:stretch/>
        </p:blipFill>
        <p:spPr>
          <a:xfrm>
            <a:off x="730080" y="1600200"/>
            <a:ext cx="66931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880" y="1663200"/>
            <a:ext cx="830592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ral and urban poor, landless or land poor farmers and female-headed households are the worst hit by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rnal and internal shock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ural poor are often forced onto marginal flood-prone land; areas subject to drought or not yet cleared of landmines and unexploded ordnance.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opulation is predominantly rural and expanding and financial crisis have seen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nt workers back to rural areas as factories are closing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marL="5079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ither urban development nor diversification of rural incomes will be sufficient to provide for or respond to the needs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Land reform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in Cambodia is seen as key 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  <a:p>
            <a:pPr lvl="1" marL="965160" indent="-5079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reating and safeguarding secure livelihoods 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social safety nets)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 for the rural poor will therefore depend greatly on how key natural resources – forestry, fisheries and agricultural land – are managed</a:t>
            </a:r>
            <a:endParaRPr b="0" lang="en-US" sz="16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54160" y="5334120"/>
            <a:ext cx="8381880" cy="1295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Increased risk for </a:t>
            </a:r>
            <a:r>
              <a:rPr b="0" lang="fr-BE" sz="1600" spc="-1" strike="noStrike">
                <a:solidFill>
                  <a:srgbClr val="0000ff"/>
                </a:solidFill>
                <a:latin typeface="Arial"/>
              </a:rPr>
              <a:t>women</a:t>
            </a: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 of gender disparities and of domestic violence and traffick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eed fo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l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creation of employ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pportunities in rural area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eed to ensur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ealth 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ocial 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ll people, especially the poores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113520" y="1321560"/>
            <a:ext cx="2009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ff"/>
                </a:solidFill>
                <a:latin typeface="Arial"/>
              </a:rPr>
              <a:t>2. Challeng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albyflores_v</cp:lastModifiedBy>
  <cp:lastPrinted>2003-11-06T16:40:02Z</cp:lastPrinted>
  <dcterms:modified xsi:type="dcterms:W3CDTF">2010-07-18T21:41:15Z</dcterms:modified>
  <cp:revision>875</cp:revision>
  <dc:subject/>
  <dc:title>No Slide Title</dc:title>
</cp:coreProperties>
</file>